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7300-F532-41C7-84F2-D71B99BD7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07D41-81D4-46C7-9B61-A602AA742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D353F-5D2A-4A48-8025-D023571B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4ADC8-563F-4E24-82B0-DEE686264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461B0-C44F-4346-8266-11A44E192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420C30-1318-4630-A5BD-808026C0DD9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9D6E6-8899-45FA-A622-A1D3C1A9E9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4A5494-BD9D-44AE-9366-B90636FA12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971B1-BA2B-4346-BD3C-2DF00DFE19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BD3684-A51E-4699-924E-D93EEDE956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B8515E-6814-47D1-9A8B-2CE38DE8A4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0A9B8-DB25-4950-9606-4145B2F106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F9258-1890-4E05-BC42-F8AA3626E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F9164-3760-4780-A4E6-EB3CDFFF82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AF02A-C00D-412E-A959-8B6B9748DF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5777B-34E6-421B-8A06-38D14792C0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EA4C57-B9E8-4208-8039-83D14BCEDAE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FFA4E1-5490-4423-A3D1-FDEBE8448EA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5E1A5-6B3F-401A-AD65-63A0EA3D5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80715-4A20-4776-9F9D-28B93C887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E2889-7397-4480-8AC4-3A13A954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F3BE4-A02F-4867-ABDF-8CF03B3B2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DD9F-8A51-48B5-9791-52E2ED287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68F23-34B7-4905-91ED-965FF1F7D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00668-7B2C-46E3-935D-4AC346D26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3DC3-60D3-468E-A1AD-6C47DD7E10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77EB-C0BC-4E82-B629-59DACFE478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lution-Focused Brief Therapy</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ypothetical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are the wanted solutions to the problem, if a miracle happened, i.e.</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when clients have difficulty coming up with exception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used as a check on how exceptions compare to imagined solu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 of hypothetical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f this was your last session, Jorge, and you were walking out with the problem solved, what would you be doing differently?”</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f a miracle happened one night while you were asleep, and you woke up in the morning with your problem solved, what would be different? How would you be acting differently? How would your Aunt Celia and Uncle Paco perceive you as acting differently?”</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 “If coming here was useful to you, what would you be doing different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llow up with</a:t>
            </a:r>
            <a:endParaRPr b="0" lang="en-US" sz="4400" spc="-1" strike="noStrike">
              <a:solidFill>
                <a:srgbClr val="ffffff"/>
              </a:solidFill>
              <a:latin typeface="Tahoma"/>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Ok, so tell me about some times when this (the solution; exception; hypothetical) is already happening a little bit n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ssignments/Task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e for positives </a:t>
            </a:r>
            <a:r>
              <a:rPr b="0" lang="en-US" sz="2800" spc="-1" strike="noStrike">
                <a:solidFill>
                  <a:srgbClr val="ffffff"/>
                </a:solidFill>
                <a:latin typeface="Wingdings"/>
                <a:ea typeface="Wingdings"/>
              </a:rPr>
              <a:t></a:t>
            </a:r>
            <a:r>
              <a:rPr b="0" lang="en-US" sz="2800" spc="-1" strike="noStrike">
                <a:solidFill>
                  <a:srgbClr val="ffffff"/>
                </a:solidFill>
                <a:latin typeface="Tahoma"/>
              </a:rPr>
              <a:t> What is Jorge doing now that is good for his situation? </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o, as you continue to do these things, will you think that you are on track to solving your problem?”</a:t>
            </a:r>
            <a:endParaRPr b="0" lang="en-US" sz="24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more of these positives </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How would you keep doing the positives? How will others know that you are keeping this going?”</a:t>
            </a:r>
            <a:endParaRPr b="0" lang="en-US" sz="24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 out how the spontaneous exceptions are happening; make note of it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no exceptions </a:t>
            </a:r>
            <a:r>
              <a:rPr b="0" lang="en-US" sz="2800" spc="-1" strike="noStrike">
                <a:solidFill>
                  <a:srgbClr val="ffffff"/>
                </a:solidFill>
                <a:latin typeface="Wingdings"/>
                <a:ea typeface="Wingdings"/>
              </a:rPr>
              <a:t></a:t>
            </a:r>
            <a:r>
              <a:rPr b="0" lang="en-US" sz="2800" spc="-1" strike="noStrike">
                <a:solidFill>
                  <a:srgbClr val="ffffff"/>
                </a:solidFill>
                <a:latin typeface="Tahoma"/>
              </a:rPr>
              <a:t> do some small piece of the hypothetical solution</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chniques </a:t>
            </a:r>
            <a:endParaRPr b="0" lang="en-US" sz="44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limenting</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ilitates a positive climate</a:t>
            </a:r>
            <a:endParaRPr b="0" lang="en-US" sz="32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eviates fears of judgement and change</a:t>
            </a:r>
            <a:endParaRPr b="0" lang="en-US" sz="32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ponsibility enhancers  </a:t>
            </a:r>
            <a:endParaRPr b="0" lang="en-US" sz="32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ourage the client using an uplifting voice </a:t>
            </a:r>
            <a:endParaRPr b="0" lang="en-US" sz="32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rge is passing in school, he has made much progress in learning the English language, Jorge is in good physical condition, he has many friends in the neighborhood.  </a:t>
            </a:r>
            <a:r>
              <a:rPr b="0" lang="en-US" sz="3200" spc="-1" strike="noStrike">
                <a:solidFill>
                  <a:srgbClr val="ffffff"/>
                </a:solidFill>
                <a:latin typeface="Tahoma"/>
              </a:rPr>
              <a:t>  </a:t>
            </a:r>
            <a:endParaRPr b="0" lang="en-US" sz="3200" spc="-1" strike="noStrike">
              <a:solidFill>
                <a:srgbClr val="ffffff"/>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rmalizing the problem</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eviates fear of being the only one with the problem(s)</a:t>
            </a:r>
            <a:endParaRPr b="0" lang="en-US" sz="2400" spc="-1" strike="noStrike">
              <a:solidFill>
                <a:srgbClr val="ffffff"/>
              </a:solidFill>
              <a:latin typeface="Tahoma"/>
            </a:endParaRPr>
          </a:p>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s the client know that the therapist is aware of their effort to change things. </a:t>
            </a:r>
            <a:endParaRPr b="0" lang="en-US" sz="2400" spc="-1" strike="noStrike">
              <a:solidFill>
                <a:srgbClr val="ffffff"/>
              </a:solidFill>
              <a:latin typeface="Tahoma"/>
            </a:endParaRPr>
          </a:p>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Jorge’s case:</a:t>
            </a:r>
            <a:endParaRPr b="0" lang="en-US" sz="24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teenagers, at some time in their adolescence, have conflicts with their parents/caregivers. </a:t>
            </a:r>
            <a:endParaRPr b="0" lang="en-US" sz="20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parents worry about their children; it’s a normal thing to wonder what your kid is doing when out of your sight.</a:t>
            </a:r>
            <a:endParaRPr b="0" lang="en-US" sz="20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will always be people that do things that you don’t necessarily agree with, and that’s okay. Stick to your values.</a:t>
            </a:r>
            <a:endParaRPr b="0" lang="en-US" sz="20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one experiences anxiety; sometimes it can seem overwhelmin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s of normalizing the problem:</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ok that you and your Aunt and Uncle are sometimes fighting. Every kid at some time will have a conflict with their parent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 is often a parent’s natural duty to be concerned with where their child is at and what their child is doing. So, your Aunt and Uncle’s worrying is just natural considering where you live with the gang activity going 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nd you know, that’s okay that you are not joining in the gang activity. There will always be someone/something with which you don’t agree, and that is okay.”</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Life is hard sometimes, not knowing which way to go and what to do, and so many other people experience anxiety. Sometimes life seems so overwhelming. You are not alone in these episode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ception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ote of the times when the problem is NOT happen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out how the spontaneous exceptions are happening and what is different about those tim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ways focus on the posi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 of exception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ell me Jorge, when are these panic attacks NOT happening?”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hat are you doing when the attacks DON’T com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extual differences: “What is different about these tim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cation (from client’s perspective): “What are you doing differently?” and “How are you thinking differentl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cation (from other’s perspective): “How are you being perceived by others as acting differentl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ll-defined goal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 positive representation</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 process form</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Doing”</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Feeling”</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cting”</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here and now</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specific as possibl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havioral changes</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in the client’s control -&gt; action can be started and maintained by the client</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the client can do, not others actions</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client’s langu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al Setting</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t goals with the client, Jorge, as the expert (what Jorge would like to see happen)</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What would you like to see happen? What would you like to change, Jorge?”</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als are small and attainable (make sure that it’s something that Jorge can accomplish)</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What will be the first sign that you are achieving your goal?” </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havioral and specific in content (be sure to get specific behaviors that Jorge will do to change the situation)</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What will you be doing when you have changed?”</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ce of something, not absence of something (not the absence of his panic attack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rmalize setbacks (discuss with Jorge that these goals may be hard work)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2T22:12:40Z</dcterms:created>
  <dc:creator>kaRRi Denny</dc:creator>
  <dc:description/>
  <dc:language>en-US</dc:language>
  <cp:lastModifiedBy>kaRRi Denny</cp:lastModifiedBy>
  <dcterms:modified xsi:type="dcterms:W3CDTF">2002-10-10T18:56:55Z</dcterms:modified>
  <cp:revision>22</cp:revision>
  <dc:subject/>
  <dc:title>Solution-Focused Brief Therapy</dc:title>
</cp:coreProperties>
</file>